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A3D-EAEE-49B4-98D5-DF59C543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FDB-5296-4E37-BBE1-EE833BBB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DC54-F27E-494D-9FD0-C57D259C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5F4-98B8-4363-A124-F05F5C1C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B5D3-144A-4F27-BC9F-A7AD0D22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5D97-D937-453D-84F9-7E3A6D2A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9C8D-B53D-468C-BD9B-4DB3C7C6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268D-924D-4428-B09F-103EDA81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649F-9FF5-45AF-881D-96530797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0CAE-166D-480E-83FA-8ECAC31D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46B7-FCBF-4B0F-A681-3AE0B000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543-0BAB-405B-B564-AF1C5202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BC99-86D9-4F52-9C69-E9370024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B0B0-158C-49DB-B9A5-2D2783B4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5AA9-E9DA-4B02-8324-62217FFC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A524-2F2A-44A2-9633-08FA79C9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7978-044E-478D-BC81-4E818064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CC0-2F36-4F2F-B63C-016C2722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64E-227D-4A3E-A6DE-B3EF4ABA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FAC-96A1-4E5A-AD14-654CB297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B0E-2B06-40F0-BE06-636D74A2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EA8-8678-4DBE-8BE0-19346310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498-87BF-4F50-880D-2D28D014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C66-806E-4BE1-BC34-CD6D6516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F9D3-544A-4DD7-9F64-31D6748ED2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AA1D-1242-4476-A1F9-AF7F5F0EBBF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ripps.edu/mem/ayagi/mito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114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Cell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116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which of the following types of cells do you think you would find more mitochondria: fat cells, muscle cells, or red blood cells?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you think both plants and animals have mitochondria?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 or why not?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>
            <a:hlinkClick r:id="rId2"/>
          </p:cNvPr>
          <p:cNvSpPr/>
          <p:nvPr/>
        </p:nvSpPr>
        <p:spPr>
          <a:xfrm>
            <a:off x="4038480" y="5029200"/>
            <a:ext cx="1067040" cy="99072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63" h="21600">
                <a:moveTo>
                  <a:pt x="0" y="0"/>
                </a:moveTo>
                <a:lnTo>
                  <a:pt x="23263" y="0"/>
                </a:lnTo>
                <a:lnTo>
                  <a:pt x="23263" y="21600"/>
                </a:lnTo>
                <a:lnTo>
                  <a:pt x="0" y="21600"/>
                </a:lnTo>
                <a:close/>
              </a:path>
              <a:path fill="lightenLess" w="23263" h="21600">
                <a:moveTo>
                  <a:pt x="0" y="0"/>
                </a:moveTo>
                <a:lnTo>
                  <a:pt x="23263" y="0"/>
                </a:lnTo>
                <a:lnTo>
                  <a:pt x="21863" y="1400"/>
                </a:lnTo>
                <a:lnTo>
                  <a:pt x="1400" y="1400"/>
                </a:lnTo>
                <a:close/>
              </a:path>
              <a:path fill="darken" w="23263" h="21600">
                <a:moveTo>
                  <a:pt x="23263" y="0"/>
                </a:moveTo>
                <a:lnTo>
                  <a:pt x="23263" y="21600"/>
                </a:lnTo>
                <a:lnTo>
                  <a:pt x="21863" y="20200"/>
                </a:lnTo>
                <a:lnTo>
                  <a:pt x="21863" y="1400"/>
                </a:lnTo>
                <a:close/>
              </a:path>
              <a:path fill="darkenLess" w="23263" h="21600">
                <a:moveTo>
                  <a:pt x="23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3" y="20200"/>
                </a:lnTo>
                <a:close/>
              </a:path>
              <a:path fill="lighten" w="23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3" h="21600">
                <a:moveTo>
                  <a:pt x="1163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263" h="21600">
                <a:moveTo>
                  <a:pt x="1163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263" h="21600">
                <a:moveTo>
                  <a:pt x="9055" y="8224"/>
                </a:moveTo>
                <a:lnTo>
                  <a:pt x="12920" y="8224"/>
                </a:lnTo>
                <a:lnTo>
                  <a:pt x="12920" y="15221"/>
                </a:lnTo>
                <a:lnTo>
                  <a:pt x="14208" y="15221"/>
                </a:lnTo>
                <a:lnTo>
                  <a:pt x="14208" y="16144"/>
                </a:lnTo>
                <a:lnTo>
                  <a:pt x="9055" y="16144"/>
                </a:lnTo>
                <a:lnTo>
                  <a:pt x="9055" y="15221"/>
                </a:lnTo>
                <a:lnTo>
                  <a:pt x="10344" y="15221"/>
                </a:lnTo>
                <a:lnTo>
                  <a:pt x="10344" y="9129"/>
                </a:lnTo>
                <a:lnTo>
                  <a:pt x="9055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15:41Z</dcterms:created>
  <dc:creator>PritchaJ</dc:creator>
  <dc:description/>
  <dc:language>en-US</dc:language>
  <cp:lastModifiedBy>PritchaJ</cp:lastModifiedBy>
  <dcterms:modified xsi:type="dcterms:W3CDTF">2011-06-01T15:17:44Z</dcterms:modified>
  <cp:revision>1</cp:revision>
  <dc:subject/>
  <dc:title>Slide 1</dc:title>
</cp:coreProperties>
</file>